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190-FFAC-44C1-BB1B-A90AE787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969-9F62-4D60-AF68-5A8C757A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6FF-7865-46CA-8846-F719BDF4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080-F16E-4F78-89CE-C336FDD1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41D6A4-3132-47F6-9B1F-D6A8A8B9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BAB7D-3A26-46D5-85DE-4FF0D8DA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B509D-72C4-4594-9C13-CC797222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C4432-0E96-4F3A-BB44-7C0C8423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8F0D6-E4D2-4E87-8F29-BC78D754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AC562-0C88-42F0-82B1-D5FD53D1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4F226-632F-4A37-AF04-DA7BB841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7E9-10DB-455D-A12A-E4A56C13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665CE-AC3A-462E-A263-73A97E3F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D766F-60ED-4DF5-B88D-FC27B927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C51F4-688C-47FE-BE23-C4CC7A7E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748CB-469E-4500-B4AA-6DD4BEAB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25F5E-62A2-44B6-8D58-DFDB297E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8721-E952-475C-A523-8BCE8784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83A-C4E8-4526-A075-F655B61B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B16-632E-48E8-B8D0-EDAC5EFF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0BDF-736E-4312-812F-58293DED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8EF-D3EE-45BB-8F12-5F3F01B9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C5A3-5E26-4E24-AB2C-9D4B90B8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E16-A294-421E-B928-9C164319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6B49-2668-48CB-9818-831D1D4A99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E668-6679-4CD8-B8FC-9AAEC23BFD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Butterfl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8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Logann Joh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95480" y="4343400"/>
            <a:ext cx="38102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e you interested in learning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bout butterflies?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ou will be surprised to know the information I’ve learned about them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81480" y="3581280"/>
            <a:ext cx="3000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en a caterpillar changes to a butterfly, this change is called metamorphosi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terpillar starts as a tiny egg. It is the size of a pinhead. The caterpillar eats and grows for 12 to 14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91320" y="3219480"/>
            <a:ext cx="2948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t makes a protective sack called a chrysali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chrysalis splits open, a butterfly climbs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68760" y="2638440"/>
            <a:ext cx="18064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utterflies live 20 to 40 days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 eat flowers, leaves, and juices. It sips the flowers’ nectar though a long, coiled tube called a probosc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33920" y="3886200"/>
            <a:ext cx="17967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re are many different kinds of butterflie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nes to look for are the monarch, black swallowtail, cabbagewhite, dogface butterfly, buckeye, and commonb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57800" y="4648320"/>
            <a:ext cx="730080" cy="90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191120" y="4419720"/>
            <a:ext cx="730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I hope you enjoyed learning about butterflies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76720" y="3657600"/>
            <a:ext cx="25714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8:13:04Z</dcterms:modified>
  <cp:revision>6</cp:revision>
  <dc:subject/>
  <dc:title>Animal Name</dc:title>
</cp:coreProperties>
</file>